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A53-CDD9-4EFB-B637-4BD75493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5B8-D703-4AB6-8550-11FCC3F5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3F7-4B87-4EA5-A3AF-76CEC5F7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72E-D695-4B6A-BAC3-2D96704D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9D9-F4B5-4847-A74A-C483C0E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A14-45A2-4863-A015-8688A78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547-F07E-4B5F-AF1B-8BC0C954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C1B-9412-4A4F-8712-2CA3D6FE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07F-4957-4B25-BA16-5C9AABF0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A1C-82C6-47AF-9520-47B1DDD2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367-ACD2-4C56-A067-0D99EC3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EC8-2651-47AC-9F73-A478FC05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9D8E-EC20-468C-A7D9-048CF52E8D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71680" y="500040"/>
            <a:ext cx="7924680" cy="1143000"/>
          </a:xfrm>
          <a:prstGeom prst="rect">
            <a:avLst/>
          </a:prstGeom>
          <a:solidFill>
            <a:srgbClr val="fefe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мическая термодинам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379781[1]"/>
          <p:cNvPicPr/>
          <p:nvPr/>
        </p:nvPicPr>
        <p:blipFill>
          <a:blip r:embed="rId1"/>
          <a:stretch/>
        </p:blipFill>
        <p:spPr>
          <a:xfrm>
            <a:off x="4572000" y="1714680"/>
            <a:ext cx="4071960" cy="4448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hemestry_v2[1]"/>
          <p:cNvPicPr/>
          <p:nvPr/>
        </p:nvPicPr>
        <p:blipFill>
          <a:blip r:embed="rId2"/>
          <a:stretch/>
        </p:blipFill>
        <p:spPr>
          <a:xfrm>
            <a:off x="285840" y="1214280"/>
            <a:ext cx="3786120" cy="50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533520"/>
            <a:ext cx="8001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в результате реакции теплота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деляется, т.е. энтальпия системы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нижается 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&lt;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называется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зо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сли повышае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эндо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90720" y="54864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990720" y="3276720"/>
            <a:ext cx="14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066680" y="38862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514600" y="4876920"/>
            <a:ext cx="10666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4382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669040" y="4114800"/>
            <a:ext cx="14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992880" y="335268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439720" y="49528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82320" y="297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992160" y="556272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Feather_writes"/>
          <p:cNvPicPr/>
          <p:nvPr/>
        </p:nvPicPr>
        <p:blipFill>
          <a:blip r:embed="rId1"/>
          <a:stretch/>
        </p:blipFill>
        <p:spPr>
          <a:xfrm>
            <a:off x="7543800" y="228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>
            <a:off x="5092560" y="5410080"/>
            <a:ext cx="3124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 flipV="1">
            <a:off x="5092560" y="32004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5181480" y="48006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6553080" y="3809880"/>
            <a:ext cx="106704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540480" y="38862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770880" y="403848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107680" y="48769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249960" y="32767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448452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5094360" y="548640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50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50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50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2627280" y="3860640"/>
            <a:ext cx="3529080" cy="7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333360"/>
            <a:ext cx="61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андартные услов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вещества – 1 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ление – 101325 П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тура – 29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5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249228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 + 2,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3860640"/>
            <a:ext cx="80769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Сгр + 3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г) + 0,5 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г) =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(ж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)(ж) = – 277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8360" y="1268280"/>
            <a:ext cx="8229600" cy="2073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нтальпия реакции, т.е. тепловой эффект реакции при р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=const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зависит от природы и состояния исходных веществ и конечных продуктов, но не зависит от пути протекания реакц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28760" y="3643200"/>
            <a:ext cx="8353440" cy="3422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 + 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= С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+ ½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С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 +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eather_writes"/>
          <p:cNvPicPr/>
          <p:nvPr/>
        </p:nvPicPr>
        <p:blipFill>
          <a:blip r:embed="rId1"/>
          <a:stretch/>
        </p:blipFill>
        <p:spPr>
          <a:xfrm>
            <a:off x="7236000" y="0"/>
            <a:ext cx="1750680" cy="1751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85080" y="53352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кон Г.И. Гесса (184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eather_writes"/>
          <p:cNvPicPr/>
          <p:nvPr/>
        </p:nvPicPr>
        <p:blipFill>
          <a:blip r:embed="rId1"/>
          <a:stretch/>
        </p:blipFill>
        <p:spPr>
          <a:xfrm>
            <a:off x="7392960" y="-17136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042920" y="189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едствия из закона Ге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981000"/>
            <a:ext cx="9144000" cy="228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28760" y="5429160"/>
            <a:ext cx="8358120" cy="148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прямой реакц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обр.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3143160"/>
            <a:ext cx="9144000" cy="228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альпия сгор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г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) – тепловой эффект реакции окисления кислородом 1 моль вещества до образования высших оксид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г) + 2,5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С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+ 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(г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3141720"/>
            <a:ext cx="720072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Калорийность пищ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ал = 4,18 Д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р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37,7-39,8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ергозатра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ей (кка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тки) в зависимости от характера труд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 (легкий труд) -2000-28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группа (врачи, студенты) - 3000-3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 (тяжелый труд) – 4000-5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 (проф. спортсмены)-7000 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11280" y="31417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ий расход энергии (кД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н) пр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дении –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янии -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дьбе – 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ге - 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349"/>
          <p:cNvPicPr/>
          <p:nvPr/>
        </p:nvPicPr>
        <p:blipFill>
          <a:blip r:embed="rId1"/>
          <a:srcRect l="37436" t="0" r="0" b="75832"/>
          <a:stretch/>
        </p:blipFill>
        <p:spPr>
          <a:xfrm>
            <a:off x="114480" y="714240"/>
            <a:ext cx="87786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 каком направлении должна самопроизвольно протекать химическая реакция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question1"/>
          <p:cNvPicPr/>
          <p:nvPr/>
        </p:nvPicPr>
        <p:blipFill>
          <a:blip r:embed="rId1"/>
          <a:stretch/>
        </p:blipFill>
        <p:spPr>
          <a:xfrm>
            <a:off x="3348000" y="1916280"/>
            <a:ext cx="2611440" cy="266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амопроизвольный процесс совершается в системе  без затраты энергии извне, при этом происходит  уменьшение работоспособности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1547640" y="1413000"/>
            <a:ext cx="6193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476360" y="404640"/>
            <a:ext cx="6335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380880"/>
            <a:ext cx="9144000" cy="204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нее устойчивое состояние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лее устойчивое состояние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ум-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211640" y="98100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7956720" y="620640"/>
            <a:ext cx="647640" cy="1584360"/>
          </a:xfrm>
          <a:custGeom>
            <a:avLst/>
            <a:gdLst>
              <a:gd name="textAreaLeft" fmla="*/ 86760 w 647640"/>
              <a:gd name="textAreaRight" fmla="*/ 560880 w 647640"/>
              <a:gd name="textAreaTop" fmla="*/ 322200 h 1584360"/>
              <a:gd name="textAreaBottom" fmla="*/ 11084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4679801"/>
                <a:lnTo>
                  <a:pt x="1861" y="21567"/>
                </a:lnTo>
                <a:lnTo>
                  <a:pt x="0" y="18538"/>
                </a:lnTo>
                <a:lnTo>
                  <a:pt x="1861" y="15442"/>
                </a:lnTo>
                <a:lnTo>
                  <a:pt x="1861" y="17538"/>
                </a:lnTo>
                <a:arcTo wR="21600" hR="8786" stAng="4679801" swAng="-4525143"/>
                <a:lnTo>
                  <a:pt x="21469" y="9752"/>
                </a:lnTo>
                <a:arcTo wR="21600" hR="8786" stAng="-154658" swAng="-5245342"/>
                <a:close/>
              </a:path>
              <a:path fill="darkenLess"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-154658"/>
                <a:lnTo>
                  <a:pt x="21469" y="9752"/>
                </a:lnTo>
                <a:arcTo wR="21600" hR="8786" stAng="-154658" swAng="-524534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4"/>
          <p:cNvPicPr/>
          <p:nvPr/>
        </p:nvPicPr>
        <p:blipFill>
          <a:blip r:embed="rId1"/>
          <a:stretch/>
        </p:blipFill>
        <p:spPr>
          <a:xfrm>
            <a:off x="3143160" y="2492280"/>
            <a:ext cx="2857680" cy="2089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пля воды (система) состоит из большого количества молеку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Испарени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– процесс эндотермический, но самопроизвольны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642960" y="214200"/>
            <a:ext cx="2571840" cy="178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214960" y="357120"/>
            <a:ext cx="2714760" cy="157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3"/>
          <p:cNvSpPr/>
          <p:nvPr/>
        </p:nvSpPr>
        <p:spPr>
          <a:xfrm>
            <a:off x="1500120" y="171468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6"/>
          <p:cNvSpPr/>
          <p:nvPr/>
        </p:nvSpPr>
        <p:spPr>
          <a:xfrm>
            <a:off x="1143000" y="135720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7"/>
          <p:cNvSpPr/>
          <p:nvPr/>
        </p:nvSpPr>
        <p:spPr>
          <a:xfrm>
            <a:off x="1714680" y="92880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8"/>
          <p:cNvSpPr/>
          <p:nvPr/>
        </p:nvSpPr>
        <p:spPr>
          <a:xfrm>
            <a:off x="2000160" y="128592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лако 9"/>
          <p:cNvSpPr/>
          <p:nvPr/>
        </p:nvSpPr>
        <p:spPr>
          <a:xfrm>
            <a:off x="7143840" y="571680"/>
            <a:ext cx="357120" cy="414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лако 10"/>
          <p:cNvSpPr/>
          <p:nvPr/>
        </p:nvSpPr>
        <p:spPr>
          <a:xfrm>
            <a:off x="5786280" y="857160"/>
            <a:ext cx="35748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лако 11"/>
          <p:cNvSpPr/>
          <p:nvPr/>
        </p:nvSpPr>
        <p:spPr>
          <a:xfrm>
            <a:off x="6572160" y="100008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лако 12"/>
          <p:cNvSpPr/>
          <p:nvPr/>
        </p:nvSpPr>
        <p:spPr>
          <a:xfrm>
            <a:off x="6143760" y="571680"/>
            <a:ext cx="357120" cy="414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1000080" y="3786120"/>
            <a:ext cx="6572160" cy="64296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3214800" y="1357200"/>
            <a:ext cx="2000160" cy="57168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1357200" y="5000760"/>
            <a:ext cx="4857840" cy="13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7"/>
          <p:cNvSpPr/>
          <p:nvPr/>
        </p:nvSpPr>
        <p:spPr>
          <a:xfrm>
            <a:off x="2500200" y="485784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8"/>
          <p:cNvSpPr/>
          <p:nvPr/>
        </p:nvSpPr>
        <p:spPr>
          <a:xfrm>
            <a:off x="2857680" y="535788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блако 19"/>
          <p:cNvSpPr/>
          <p:nvPr/>
        </p:nvSpPr>
        <p:spPr>
          <a:xfrm>
            <a:off x="20718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блако 20"/>
          <p:cNvSpPr/>
          <p:nvPr/>
        </p:nvSpPr>
        <p:spPr>
          <a:xfrm>
            <a:off x="4071960" y="457200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блако 21"/>
          <p:cNvSpPr/>
          <p:nvPr/>
        </p:nvSpPr>
        <p:spPr>
          <a:xfrm>
            <a:off x="45720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блако 22"/>
          <p:cNvSpPr/>
          <p:nvPr/>
        </p:nvSpPr>
        <p:spPr>
          <a:xfrm>
            <a:off x="2786040" y="585792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23"/>
          <p:cNvSpPr/>
          <p:nvPr/>
        </p:nvSpPr>
        <p:spPr>
          <a:xfrm>
            <a:off x="3714840" y="521496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24"/>
          <p:cNvSpPr/>
          <p:nvPr/>
        </p:nvSpPr>
        <p:spPr>
          <a:xfrm>
            <a:off x="4214880" y="607212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5"/>
          <p:cNvSpPr/>
          <p:nvPr/>
        </p:nvSpPr>
        <p:spPr>
          <a:xfrm>
            <a:off x="6500880" y="5143680"/>
            <a:ext cx="2428920" cy="92844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еличился беспорядо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entropy.avi" descr=""/>
          <p:cNvPicPr/>
          <p:nvPr/>
        </p:nvPicPr>
        <p:blipFill>
          <a:blip r:embed="rId1"/>
          <a:stretch/>
        </p:blipFill>
        <p:spPr>
          <a:xfrm>
            <a:off x="2071800" y="2143080"/>
            <a:ext cx="3786120" cy="14382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7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14200" y="92880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Термодинамической системой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ывается любой объект природы, состоящий из достаточно большого числа молекул (структурных единиц) и отделенный от других объектов природы реальной или воображаемой границей раздел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57160" y="2714760"/>
            <a:ext cx="586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ом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воздух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етер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кровь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eather_writes"/>
          <p:cNvPicPr/>
          <p:nvPr/>
        </p:nvPicPr>
        <p:blipFill>
          <a:blip r:embed="rId1"/>
          <a:stretch/>
        </p:blipFill>
        <p:spPr>
          <a:xfrm>
            <a:off x="8001000" y="152280"/>
            <a:ext cx="1143000" cy="1204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04920" y="457200"/>
            <a:ext cx="83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модинами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ка об энергетике процесс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295280" y="5410080"/>
            <a:ext cx="6777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отсутствии массо- и теплообмена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 внешней средой говорят об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лированной систем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,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05880" y="3571920"/>
            <a:ext cx="73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й и теплом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крытой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59360" y="4429080"/>
            <a:ext cx="7604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нергией (но не массой!)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2843280" y="5084640"/>
            <a:ext cx="3673440" cy="1648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S = Q/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Дж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ол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·K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9640" y="2349360"/>
            <a:ext cx="7925040" cy="2653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приращение которой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вно теплоте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одведенной к системе в обратимом изотермическом процессе, деленной на абсолютную температуру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ри которой осуществляется процесс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260280"/>
            <a:ext cx="86421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характеризующая меру неупорядоченности системы, неоднородности расположения  и движения ее част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нтро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501040" cy="5018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энтропии зависи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т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алма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ь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 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-ции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.прод—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х.в-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533520" y="304920"/>
            <a:ext cx="454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торой закон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рмодина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76720" y="4653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0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Feather_writes"/>
          <p:cNvPicPr/>
          <p:nvPr/>
        </p:nvPicPr>
        <p:blipFill>
          <a:blip r:embed="rId1"/>
          <a:stretch/>
        </p:blipFill>
        <p:spPr>
          <a:xfrm>
            <a:off x="7010280" y="4572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23800" y="2514600"/>
            <a:ext cx="80917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ая система, предоставленная сама себе, в среднем буд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яться в направлении состояния, отвечающ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ксимальной вероят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26320" y="3809880"/>
            <a:ext cx="7261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любом необратимом процессе полная энтропия все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атриваемых тел возраста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21280" y="5410080"/>
            <a:ext cx="8149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с максимальной энтропией – наиболее устойчив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для изолированной систе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11640" y="18572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ю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610920" y="480060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50920" y="2286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степень беспорядка не изменяется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то направление процесса определяется изменением энтальп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оцесс проходит самопроизвольно в направлении уменьшения энталь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8000" y="227664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не происходит энергетических измене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фактором,  определяющим направление реакции, является энтропия и процесс пойдет самопроизвольно в направлении, при котором степень беспорядка возрастает, т.е. в сторону увеличения энтро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4797360"/>
            <a:ext cx="914400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стремление системы  к минимуму энерг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емление системы к максимуму энтроп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152280" y="609480"/>
          <a:ext cx="2511720" cy="31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11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3"/>
          <p:cNvGraphicFramePr/>
          <p:nvPr/>
        </p:nvGraphicFramePr>
        <p:xfrm>
          <a:off x="457200" y="914400"/>
          <a:ext cx="1928880" cy="26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14400"/>
                    <a:ext cx="19288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4"/>
          <p:cNvSpPr/>
          <p:nvPr/>
        </p:nvSpPr>
        <p:spPr>
          <a:xfrm>
            <a:off x="0" y="3733920"/>
            <a:ext cx="2776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ж. Гибб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839-19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971800" y="16002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критер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произвольности процесс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сообразно ввести нову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ю состояния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учитывает влия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их факто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657600" y="3886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71800" y="4572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вободн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я энергия Гиббса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974680" y="457200"/>
            <a:ext cx="4515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вободн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энерги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Гиббса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Feather_writes"/>
          <p:cNvPicPr/>
          <p:nvPr/>
        </p:nvPicPr>
        <p:blipFill>
          <a:blip r:embed="rId5"/>
          <a:stretch/>
        </p:blipFill>
        <p:spPr>
          <a:xfrm>
            <a:off x="7543800" y="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766800" y="5334120"/>
            <a:ext cx="783900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ак и для других функций состояния, для свободной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энергии важно не абсолютное значение функции, а ее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изменение в ходе процесс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85800" y="4876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АЖН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39640" y="18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торое начало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(определение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Гиббса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95280" y="1268280"/>
            <a:ext cx="8077320" cy="3506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зотермических условиях в системе самопроизвольно могут осуществляться только такие процессы, в результате которы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уменьшается (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оянии равновес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не меняетс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const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Feather_writes"/>
          <p:cNvPicPr/>
          <p:nvPr/>
        </p:nvPicPr>
        <p:blipFill>
          <a:blip r:embed="rId1"/>
          <a:stretch/>
        </p:blipFill>
        <p:spPr>
          <a:xfrm>
            <a:off x="76201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324000" y="4941720"/>
            <a:ext cx="8076960" cy="1373760"/>
          </a:xfrm>
          <a:prstGeom prst="rect">
            <a:avLst/>
          </a:prstGeom>
          <a:solidFill>
            <a:srgbClr val="99ff99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химические процесс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Экзэргонические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Эндэргонические  </a:t>
            </a:r>
            <a:r>
              <a:rPr b="1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G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6186960" y="609120"/>
            <a:ext cx="2151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Факторы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пределяющие ход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395280" y="2852640"/>
            <a:ext cx="8457480" cy="3105000"/>
            <a:chOff x="395280" y="2852640"/>
            <a:chExt cx="8457480" cy="3105000"/>
          </a:xfrm>
        </p:grpSpPr>
        <p:sp>
          <p:nvSpPr>
            <p:cNvPr id="188" name="Rectangle 4"/>
            <p:cNvSpPr/>
            <p:nvPr/>
          </p:nvSpPr>
          <p:spPr>
            <a:xfrm>
              <a:off x="395280" y="2852640"/>
              <a:ext cx="869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265040" y="2852640"/>
              <a:ext cx="9140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2179440" y="2852640"/>
              <a:ext cx="6673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Возможность самопроизвольного процесс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395280" y="3582720"/>
              <a:ext cx="8697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265040" y="3582720"/>
              <a:ext cx="91404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2179440" y="3582720"/>
              <a:ext cx="66733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любой температур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395280" y="417672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265040" y="417672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179440" y="417672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низких температурах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395280" y="477036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4"/>
            <p:cNvSpPr/>
            <p:nvPr/>
          </p:nvSpPr>
          <p:spPr>
            <a:xfrm>
              <a:off x="1265040" y="477036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2179440" y="477036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высоких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мпературах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395280" y="536400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"/>
            <p:cNvSpPr/>
            <p:nvPr/>
          </p:nvSpPr>
          <p:spPr>
            <a:xfrm>
              <a:off x="1265040" y="536400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"/>
            <p:cNvSpPr/>
            <p:nvPr/>
          </p:nvSpPr>
          <p:spPr>
            <a:xfrm>
              <a:off x="2179440" y="536400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цесс невозможе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9"/>
          <p:cNvSpPr/>
          <p:nvPr/>
        </p:nvSpPr>
        <p:spPr>
          <a:xfrm>
            <a:off x="2133720" y="1828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39640" y="404640"/>
            <a:ext cx="7920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2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МФ + нФ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1,0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ыв связ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атация, изомеризация и нейтрализация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пряж.реак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Feather_writes"/>
          <p:cNvPicPr/>
          <p:nvPr/>
        </p:nvPicPr>
        <p:blipFill>
          <a:blip r:embed="rId1"/>
          <a:stretch/>
        </p:blipFill>
        <p:spPr>
          <a:xfrm>
            <a:off x="6948360" y="1916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2124000" y="3357720"/>
            <a:ext cx="4969080" cy="64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79280" y="404640"/>
            <a:ext cx="8964720" cy="5773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юкоза  + фруктоз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хароза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20,9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пряж.реакций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люкозо-1-фосф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428760"/>
            <a:ext cx="7921800" cy="23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биохимических процессов, стремление к равновеси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энергетическая выгод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79280" y="2637000"/>
            <a:ext cx="5472360" cy="4118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403280" y="2852280"/>
            <a:ext cx="0" cy="230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1403280" y="5157720"/>
            <a:ext cx="309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4500720" y="285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226800">
            <a:off x="1332000" y="3497400"/>
            <a:ext cx="3166920" cy="1225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1763640" y="3500280"/>
            <a:ext cx="100800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3348000" y="3500280"/>
            <a:ext cx="93492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724360" y="2643120"/>
            <a:ext cx="3240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случае протекания обратимых реакций система самопроизвольно приходит к состоянию       химического равновесия .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8244000" y="2500200"/>
            <a:ext cx="6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42920" y="450864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ется совокупностью ее свойств  и характеризуе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термодинамическими           параметрам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79280" y="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Равновес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характеризуется постоянством всех свойств во времени за счет отсутствия потоков вещества и энергии в систем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тационар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ется постоянством всех свойств во времени за счет непрерывного обмена веществом и энергией между системой и окружающей сред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Переходное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е свойств системы во време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24000" y="428760"/>
            <a:ext cx="8424720" cy="51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стадий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аморегуляц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21" name="Line 5"/>
          <p:cNvSpPr/>
          <p:nvPr/>
        </p:nvSpPr>
        <p:spPr>
          <a:xfrm flipV="1">
            <a:off x="1116000" y="1989000"/>
            <a:ext cx="0" cy="187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476360" y="4365720"/>
            <a:ext cx="2017800" cy="431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1116000" y="386064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"/>
          <p:cNvSpPr/>
          <p:nvPr/>
        </p:nvSpPr>
        <p:spPr>
          <a:xfrm flipV="1">
            <a:off x="4932360" y="206064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4500720" y="4149720"/>
            <a:ext cx="3600360" cy="136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ждой стад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=)10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27"/>
          <p:cNvSpPr/>
          <p:nvPr/>
        </p:nvSpPr>
        <p:spPr>
          <a:xfrm rot="8771400">
            <a:off x="2484360" y="234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28"/>
          <p:cNvSpPr/>
          <p:nvPr/>
        </p:nvSpPr>
        <p:spPr>
          <a:xfrm rot="9335400">
            <a:off x="1258920" y="198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29"/>
          <p:cNvSpPr/>
          <p:nvPr/>
        </p:nvSpPr>
        <p:spPr>
          <a:xfrm rot="8771400">
            <a:off x="3779640" y="2637000"/>
            <a:ext cx="93636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14200" y="432000"/>
            <a:ext cx="892980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Э.Бауэром был сформулирован «Всеобщий закон биологии» в следующей редакци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928800" y="1714680"/>
            <a:ext cx="771516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и только живые системы никогда не бывают в равновесии и исполняют за счет своей свободной энергии постоянную работу против равновесия, требуемого законами физики и химии при существующих внешних условиях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39640" y="404640"/>
            <a:ext cx="7920000" cy="350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И. Пригож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 открытой системе в стационарном состоянии прирост энтропии в единицу времен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имает минимальное положительное значение для данных усло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04040" y="4071960"/>
            <a:ext cx="90277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Энтропия – мера рассеяния энерг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и стационарном состоянии рассеяние  энерг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иббса –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инимально !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357120" y="812880"/>
            <a:ext cx="8501040" cy="563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В живых организмах ни один процесс не может происходить непрерывно, а должен чередоваться с противоположно направленным: вдох с выдохом, работа с отдыхом, бодрствование со сном,  синтез веществ с их расщеплением и т.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е живого организма никогда не бывает статическим, а все его физиологические и энергетические параметры всегда находятся в состоянии непрерывных колебаний относительно средних значений, как по частоте, так и по амплитуд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571680" y="214200"/>
            <a:ext cx="3214440" cy="57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аким образо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39640" y="404640"/>
            <a:ext cx="8353440" cy="71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ойчивость живых организм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тельная работоспособ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меоста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гк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2800" spc="-1" strike="noStrike" baseline="-25000">
                <a:solidFill>
                  <a:srgbClr val="3333cc"/>
                </a:solidFill>
                <a:latin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ткан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блас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клас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бразовани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(растворен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О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Feather_writes"/>
          <p:cNvPicPr/>
          <p:nvPr/>
        </p:nvPicPr>
        <p:blipFill>
          <a:blip r:embed="rId1"/>
          <a:stretch/>
        </p:blipFill>
        <p:spPr>
          <a:xfrm>
            <a:off x="7315200" y="620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4211640" y="907920"/>
            <a:ext cx="431640" cy="720720"/>
          </a:xfrm>
          <a:prstGeom prst="downArrow">
            <a:avLst>
              <a:gd name="adj1" fmla="val 50000"/>
              <a:gd name="adj2" fmla="val 41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2987640" y="2781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H="1">
            <a:off x="3419640" y="2997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1979280" y="3068640"/>
            <a:ext cx="338436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987640" y="40053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 flipH="1">
            <a:off x="3924000" y="422100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7"/>
          <p:cNvSpPr/>
          <p:nvPr/>
        </p:nvSpPr>
        <p:spPr>
          <a:xfrm rot="2735400">
            <a:off x="3384720" y="5121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8"/>
          <p:cNvSpPr/>
          <p:nvPr/>
        </p:nvSpPr>
        <p:spPr>
          <a:xfrm rot="20008200">
            <a:off x="5148000" y="5084280"/>
            <a:ext cx="803160" cy="505080"/>
          </a:xfrm>
          <a:prstGeom prst="rightArrow">
            <a:avLst>
              <a:gd name="adj1" fmla="val 50000"/>
              <a:gd name="adj2" fmla="val 397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68360" y="4365720"/>
            <a:ext cx="7993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характеристики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состояния систем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ют кром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х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параметров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692280"/>
            <a:ext cx="83818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ажнейш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с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массы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m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ъем системы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личество вещества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Ин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температура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давление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нцентрац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взаимодействии систем значения экстенсив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ов </a:t>
            </a: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суммиру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интенсивных 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средняю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ы системы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04920" y="4762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истемы – всегда экстенсивные величин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т термодинамических параметров, характеризующих состояние систе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пути достижения данного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80880" y="2895480"/>
            <a:ext cx="83059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кц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й состояния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лная энергия систем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представляет собой сумму трех составляющих: кинетическ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потенциальн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обусловленной действием внешних силовых полей (гравитационного, электромагнитного и пр.), и внутренней энергии системы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Е = К + П + 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04920" y="4762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нутренняя энергия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а сумме потенциальной и кинетической энергии всех частиц этой системы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= 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5280" y="1844640"/>
            <a:ext cx="8280360" cy="16786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оцесс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системы из одного состояния в друго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чное значение (параметра, функции)  — начально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араметра, функци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5280" y="5589720"/>
            <a:ext cx="8202600" cy="8863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имические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5280" y="3645000"/>
            <a:ext cx="8202600" cy="1678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процессов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терм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 = 0)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обарически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хор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=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539640" y="26028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б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) - 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аправленн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А 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хаотическ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50920" y="39337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и теплот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не являются свойствами системы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ю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процес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мена энергией между системой и окружающей средой, поэто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ят от пу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1676520"/>
            <a:ext cx="8229600" cy="1312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Если отсутствует теплообмен системы с внешней средой, запас ее внутренней энергии остается постоянным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0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3352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бщенная системе тепл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уется на увеличение внутренней энерг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совершение работы против внешних си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971800" y="49528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Q = </a:t>
            </a:r>
            <a:r>
              <a:rPr b="1" i="1" lang="ru-RU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51320" y="260280"/>
            <a:ext cx="63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вый закон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.Мейер, 1842 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врач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3419640" y="4508640"/>
            <a:ext cx="1944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492360" y="4437000"/>
            <a:ext cx="18003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80000" y="142920"/>
            <a:ext cx="2149200" cy="64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50920" y="981000"/>
            <a:ext cx="8229600" cy="5882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—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ко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—  Uнач) + (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—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) — (Uнач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 + pV = H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нтальп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Q 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eather_writes"/>
          <p:cNvPicPr/>
          <p:nvPr/>
        </p:nvPicPr>
        <p:blipFill>
          <a:blip r:embed="rId1"/>
          <a:stretch/>
        </p:blipFill>
        <p:spPr>
          <a:xfrm>
            <a:off x="7392960" y="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26920" y="260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508464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нтальпия эквивалентна внутренней энергии системы при постоянном давлении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6T22:50:56Z</dcterms:created>
  <dc:creator>Zelenin</dc:creator>
  <dc:description/>
  <dc:language>en-US</dc:language>
  <cp:lastModifiedBy>Admin</cp:lastModifiedBy>
  <dcterms:modified xsi:type="dcterms:W3CDTF">2012-12-18T05:11:03Z</dcterms:modified>
  <cp:revision>220</cp:revision>
  <dc:subject/>
  <dc:title>Презентация PowerPoint</dc:title>
</cp:coreProperties>
</file>